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819F-BF19-42D3-BC63-19433A969D7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746F-93A4-4C95-8094-5CA256B2D452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F4C1EA89-F698-414F-B969-43C0838F423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9AA49A4B-5942-4CA9-9FD3-CF9CB7825FD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B3FFB664-83A8-4B96-8104-4C27BCFBEA12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BC9C8439-4C64-41C4-8E82-BD88A97F006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EDF5-10B5-4446-8178-32B568BDC484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AFD60EB7-20E1-4A0F-9339-14756834555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rane aktivnosti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GIZ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-a,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fin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irane od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EU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 je da 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slije katastrofalnih popla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novno uspostavi i unaprijedi konkurentnosti odabranih poslovnih lokaliteta i MSP-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nicijalna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faza u trajanju od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12 m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jeseci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: 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podrška u obnovi (davanje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grantova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odabranim MSP-a, u drvnom, metalnom i sektoru agrobiznisa, kako bi se nadoknadile štete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&amp;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gubici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općinskih kapaciteta za upravljan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škole za lokalni ekonomskI razvoj 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, 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rn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e metode javnog upravljan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spostavljanje Javno privatnog dijalog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mplementirati platforme dijalog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ti tržišno orijentisan i potražnjom vođen razvoj lokalnih ekonomi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napređenje lanca vrijednos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mo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visati lance vrijednosti i koristiti inovativne tehnologi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2017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a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odatnih 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t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rebaju biti određene naknadno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U tok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rogram za lokalnu samoupravu i ekonomski razvoj u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konkurentnost odabranih poslovnih lokaliteta i njihovih MSP-a je unaprijeđen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kapaciteta upravljanja 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općina, kako bi se podržao ekonomski razvoj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Saradnja između javnog i privatnog sektora,kako bi se ojačala konkurentnost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nje inkluzivnih poslovnih modela uz lance vrijednosti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nua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2013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decemba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21T09:08:19Z</dcterms:modified>
  <cp:revision>777</cp:revision>
  <dc:subject/>
  <dc:title>Folie 1</dc:title>
</cp:coreProperties>
</file>